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4C0E-CC5C-42F1-B964-9633644D5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FA1B-4419-426F-B255-CADFCE083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0E5C-71F1-4081-8ED5-328EFADE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32C-5436-41CC-A456-617ACA84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C62B-3D52-4B94-9EC5-5F903660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7B6-3B62-4450-99F2-679E586E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F814-E253-498E-A9B7-38FEF4EE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3B7C-D86B-4DB6-B7A9-34685C69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E78-CA66-40A4-A0CA-EAC148AA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C2F-A180-42D4-A86A-21728EF3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03C-C1D6-4EE6-AD32-4F7B8E57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892-249D-4161-BF3A-9B9F7F4B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CC2-75C8-4630-895D-52A29295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24BF-3C1E-4B2B-91A9-092F9995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40E5-2DDE-4D0A-BABD-1D7C5A479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1447920" y="533520"/>
            <a:ext cx="9144000" cy="9903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smah Ode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smah odeh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smah odeh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smah ode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ola!  ¿cómo estas?  ¿Qué hac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124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4395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iffan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429000"/>
            <a:ext cx="1752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nombre es Asmah Ode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vivo en New York Ci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tengo catorce añ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tengo cuatro hermanos.yo amo la music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645080"/>
            <a:ext cx="50472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95320" y="4645080"/>
            <a:ext cx="495360" cy="93816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ristain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i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5" descr="Photo on 2011-10-24 at 13.44.jpg"/>
          <p:cNvPicPr/>
          <p:nvPr/>
        </p:nvPicPr>
        <p:blipFill>
          <a:blip r:embed="rId3"/>
          <a:stretch/>
        </p:blipFill>
        <p:spPr>
          <a:xfrm>
            <a:off x="133200" y="5559480"/>
            <a:ext cx="495360" cy="938160"/>
          </a:xfrm>
          <a:prstGeom prst="rect">
            <a:avLst/>
          </a:prstGeom>
          <a:ln w="0">
            <a:noFill/>
          </a:ln>
        </p:spPr>
      </p:pic>
      <p:sp>
        <p:nvSpPr>
          <p:cNvPr id="88" name="TextBox 66"/>
          <p:cNvSpPr/>
          <p:nvPr/>
        </p:nvSpPr>
        <p:spPr>
          <a:xfrm flipH="1">
            <a:off x="1371600" y="51926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8" descr="Photo on 2011-10-21 at 13.53 #2.jpg"/>
          <p:cNvPicPr/>
          <p:nvPr/>
        </p:nvPicPr>
        <p:blipFill>
          <a:blip r:embed="rId4"/>
          <a:stretch/>
        </p:blipFill>
        <p:spPr>
          <a:xfrm>
            <a:off x="2114640" y="2530440"/>
            <a:ext cx="463320" cy="865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0" descr="Photo on 2011-10-21 at 13.39 #2.jpg"/>
          <p:cNvPicPr/>
          <p:nvPr/>
        </p:nvPicPr>
        <p:blipFill>
          <a:blip r:embed="rId5"/>
          <a:stretch/>
        </p:blipFill>
        <p:spPr>
          <a:xfrm>
            <a:off x="2189160" y="3273480"/>
            <a:ext cx="420840" cy="822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Photo on 2011-10-21 at 13.53 #2.jpg"/>
          <p:cNvPicPr/>
          <p:nvPr/>
        </p:nvPicPr>
        <p:blipFill>
          <a:blip r:embed="rId6"/>
          <a:stretch/>
        </p:blipFill>
        <p:spPr>
          <a:xfrm>
            <a:off x="2114640" y="3822840"/>
            <a:ext cx="463320" cy="86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3886200"/>
            <a:ext cx="47242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i yo puedo bailar. Mis hermanas y yo somos excelentes bailarinas.  ¿dónde cenamos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    TIFFAN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bailar. ¿Puedes  tú bailar?                                     AS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8" descr="Photo on 2011-10-21 at 13.46.jpg"/>
          <p:cNvPicPr/>
          <p:nvPr/>
        </p:nvPicPr>
        <p:blipFill>
          <a:blip r:embed="rId7"/>
          <a:stretch/>
        </p:blipFill>
        <p:spPr>
          <a:xfrm>
            <a:off x="2127240" y="4492800"/>
            <a:ext cx="469800" cy="938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Bien ¿Y tú? Hablamos  contigo. ¿Qué quieres hacer?                                        TIFFAN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 Donde están tus hermanas?                                  AS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9" descr="Photo on 2011-10-21 at 13.53 #2.jpg"/>
          <p:cNvPicPr/>
          <p:nvPr/>
        </p:nvPicPr>
        <p:blipFill>
          <a:blip r:embed="rId8"/>
          <a:stretch/>
        </p:blipFill>
        <p:spPr>
          <a:xfrm>
            <a:off x="2041560" y="5194440"/>
            <a:ext cx="463680" cy="865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llas están con nuestros padres. ¿dónde están tú y hermanas?                        TIFF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2" descr="Photo on 2011-10-21 at 13.46.jpg"/>
          <p:cNvPicPr/>
          <p:nvPr/>
        </p:nvPicPr>
        <p:blipFill>
          <a:blip r:embed="rId9"/>
          <a:stretch/>
        </p:blipFill>
        <p:spPr>
          <a:xfrm>
            <a:off x="2041560" y="6016680"/>
            <a:ext cx="476280" cy="9381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amos en la supermercado. CHAU                                    ASMAH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3" descr="Photo on 2011-11-29 at 13.54.jpg"/>
          <p:cNvPicPr/>
          <p:nvPr/>
        </p:nvPicPr>
        <p:blipFill>
          <a:blip r:embed="rId10"/>
          <a:stretch/>
        </p:blipFill>
        <p:spPr>
          <a:xfrm>
            <a:off x="838080" y="5486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2"/>
          <p:cNvSpPr/>
          <p:nvPr/>
        </p:nvSpPr>
        <p:spPr>
          <a:xfrm>
            <a:off x="779040" y="601992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lan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securedownload.jpeg"/>
          <p:cNvPicPr/>
          <p:nvPr/>
        </p:nvPicPr>
        <p:blipFill>
          <a:blip r:embed="rId11"/>
          <a:stretch/>
        </p:blipFill>
        <p:spPr>
          <a:xfrm>
            <a:off x="304920" y="609480"/>
            <a:ext cx="914400" cy="10670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2743200" y="6500880"/>
            <a:ext cx="44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iós                                     TIFF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8:26:29Z</dcterms:modified>
  <cp:revision>118</cp:revision>
  <dc:subject/>
  <dc:title>Profile</dc:title>
</cp:coreProperties>
</file>